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EB9-50F2-4100-AA4A-4AA0C145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6EB-6C29-423B-A302-59E9AC0D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83C-2CF2-4135-9592-903F517D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0E3-BD02-4EF3-A666-5543C321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69A1-B226-4986-B4F9-F22BF9B1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86EC-86A5-4CE1-9FCA-E366BBD7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EC8B-607C-46F3-873E-7A68E025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8A71-5BA7-46BC-8361-66D2CAD7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7B67-DF78-4ADF-BA6A-D2AA55BB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94FC-066F-41BA-BAC4-05FD889C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10A6-3136-4E94-A744-9A071A94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2A1-4849-4EE7-BE4E-D4AFA213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F2E7-5E79-4D1B-A791-DB5E3B98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1EBE-7203-4514-983C-B07CD916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309B-F72F-4C0E-933A-D5F65A70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4245-E5A3-4447-BEA2-E50CE935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7BF5-B225-4343-8CD6-A3123938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449-8F90-471A-965C-006E9CB3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D7A-B92A-46A1-AAED-3F9BEE50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DBC-8BE4-4BF4-A7A9-3C23B43B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15C-1346-4953-8303-A9EA4709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4D1-7F73-48F5-9204-200453B4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183-F7FC-479E-9848-A4491CC7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0B6-3C67-45FD-982B-11EE8038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E3B8-9229-4272-8C5F-127F7E603F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56DD-F2DB-45D7-8012-9EE9B3B075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dbbd71"/>
                </a:solidFill>
                <a:uFillTx/>
                <a:latin typeface="Arial"/>
              </a:rPr>
              <a:t>Writing in Ancient Egypt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18960" y="42670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IEL INTRIAGO AND RUSHABH KAMD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y, How, and When Egyptian Writing was Inven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gyptian Writing Materi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ystery Unlocked: The Rosette Sto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You Would Find Egyptian Wri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2504880" cy="313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2135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What material did the ancient Egyptians invent to write on more eas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43828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-Cut C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Ruined 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hat is papyrus paper made o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2057400"/>
            <a:ext cx="6019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genized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y and s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 r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 sk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y did Egyptian scribes create a form of writing at firs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71629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eople can’t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eep track of the kingdom’s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eep record of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y needed to send 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Where was the Rosetta Stone fou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1337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133720"/>
            <a:ext cx="5715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uthern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ahara 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setta Buff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752480"/>
            <a:ext cx="6476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What are the three forms of writing on the Rosetta Sto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2286000"/>
            <a:ext cx="7086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an, Algonquian, and 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tic, Hieroglyphics, and Ind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eroglyphics, Demotic, and 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5400000">
            <a:off x="-1186200" y="3243240"/>
            <a:ext cx="53053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s for Watc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057400" y="5943600"/>
            <a:ext cx="6143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We Hope You Enjoyed I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657600" y="1523880"/>
            <a:ext cx="342900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Why, How, and When Egyptian Writing was Invented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: The Egyptian scribes needed to keep record of the wealth of Egyp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: The Egyptians at first came up with symbols standing for something. As the  kingdom grew, more symbols had to be invented for the compli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: The first hieroglyphics were found on pottery and were dated back to about 3100 BC(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29000" y="4724280"/>
            <a:ext cx="19749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905120" y="304920"/>
            <a:ext cx="5105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gyptian Writing To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50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written o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181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an old form of paper that the Egyptians used called papyrus paper, made from papyrus r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62520" y="3200400"/>
            <a:ext cx="1412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written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8862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that Egyptians wrote with was an old type of pen made of a re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121932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gyptian Writing Tools (Continued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54864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k was black, indestructible, and made by mixing water, soot, and vegetable gu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29145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 Mystery Unlocked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osetta Ston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6765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ncient Egyptian hieroglyphics were lost around the year 400 AD (CE). A soldier found a stone near the city of Rosetta, near the Nile delta. It was named the Rosetta St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24080" y="3124080"/>
            <a:ext cx="2867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Rosetta Stone (Continued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setta Stone has three languages. The uppermost text is known as Egyptian hieroglyphi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0481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iddle writing is known as a later Egyptian writing called demotic, which is not as significant as Egyptian hieroglyph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876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ower part of the Rosetta Stone contains Greek wri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752480" y="76212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Funny Part I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97180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 languages have the same meaning written on the Rosetta Ston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rd, hu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5120" y="1447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 the other hand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3623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uess wh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752480" y="1676520"/>
            <a:ext cx="5977080" cy="28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iz Time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0:34:52Z</dcterms:created>
  <dc:creator>Rushabh Kamdar</dc:creator>
  <dc:description/>
  <dc:language>en-US</dc:language>
  <cp:lastModifiedBy>Default</cp:lastModifiedBy>
  <dcterms:modified xsi:type="dcterms:W3CDTF">2009-01-15T18:04:39Z</dcterms:modified>
  <cp:revision>6</cp:revision>
  <dc:subject/>
  <dc:title>Writing in Ancient Egypt </dc:title>
</cp:coreProperties>
</file>